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854-130E-4EF7-B05F-6F161C7F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368-241A-4006-8C14-A5DA0C58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C09-3D12-4E0E-B155-1DD7CDEB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C1C-DF31-4A0B-A452-3ACC1C7A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3E9-6C78-4053-A025-0F10EAD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19B-03D1-4040-A1A8-FA020D73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DCA-D823-499F-A6A6-D7CA6539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164-DE62-4886-AEED-C6D145B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4CE-29A5-47B4-A1E3-15AC621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A1C-1B85-4358-8F54-6D4FD8C5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712-5ED9-436D-BB9A-C9F6479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200-56FC-4A4D-9B12-413B517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651-F69A-4EFB-8099-6274883724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7993080" y="0"/>
            <a:ext cx="1915920" cy="8366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0" y="0"/>
            <a:ext cx="7977240" cy="836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92520" y="1197000"/>
            <a:ext cx="498636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attesta 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Nome Cogno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a partecipato dal ……………al …………… al cors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t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artecipante ha frequentato più dell’80% del co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97600" y="537372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iret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f. 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6689880"/>
            <a:ext cx="9906120" cy="698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4140360" y="316080"/>
            <a:ext cx="397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zion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8121600" y="333360"/>
            <a:ext cx="178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5"/>
          <p:cNvSpPr/>
          <p:nvPr/>
        </p:nvSpPr>
        <p:spPr>
          <a:xfrm>
            <a:off x="0" y="6773760"/>
            <a:ext cx="9906120" cy="111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3728880" y="836640"/>
            <a:ext cx="0" cy="233820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7" descr="poli_prospettiva"/>
          <p:cNvPicPr/>
          <p:nvPr/>
        </p:nvPicPr>
        <p:blipFill>
          <a:blip r:embed="rId1"/>
          <a:stretch/>
        </p:blipFill>
        <p:spPr>
          <a:xfrm>
            <a:off x="0" y="4508640"/>
            <a:ext cx="3121200" cy="2106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1"/>
          <p:cNvSpPr/>
          <p:nvPr/>
        </p:nvSpPr>
        <p:spPr>
          <a:xfrm>
            <a:off x="465120" y="2808360"/>
            <a:ext cx="223200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te Ges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Y:\IMMAGINE _COORDINATA_2014\LOGO_UFFICIALE\02_Polimi_bandiera\jpg\02_Polimi_bandiera_BN_positivo_outline.jpg"/>
          <p:cNvPicPr/>
          <p:nvPr/>
        </p:nvPicPr>
        <p:blipFill>
          <a:blip r:embed="rId2"/>
          <a:srcRect l="7471" t="16602" r="7657" b="16740"/>
          <a:stretch/>
        </p:blipFill>
        <p:spPr>
          <a:xfrm>
            <a:off x="503280" y="1440000"/>
            <a:ext cx="26193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7:45:09Z</dcterms:created>
  <dc:creator>OTIS S.p.A.</dc:creator>
  <dc:description/>
  <dc:language>en-US</dc:language>
  <cp:lastModifiedBy>Francesca Armani</cp:lastModifiedBy>
  <cp:lastPrinted>2000-10-13T08:29:58Z</cp:lastPrinted>
  <dcterms:modified xsi:type="dcterms:W3CDTF">2023-06-20T15:53:40Z</dcterms:modified>
  <cp:revision>70</cp:revision>
  <dc:subject/>
  <dc:title>Nessun titolo diapositiva</dc:title>
</cp:coreProperties>
</file>