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2EF-0DB0-4EB2-B15A-418D5D02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F62-3092-4D5A-AD90-45A9846D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C00-A6D3-43B3-87DB-32604DD0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F68-11C9-434F-A28B-EF535A4F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A59-D13F-41E9-AEF9-6260FEE7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04E-CE3C-47F3-8292-0C6799AE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DF4-A5F3-473D-8153-D747FEBE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DBA-4A81-4564-BFB5-37A64DA5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89C-2DD8-47B1-A75C-93A6C0AA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001-E6CA-428F-BD86-0BD32A08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51D-2AA5-4ACA-8CE1-277633C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C2B-20FE-493B-A7C3-7ACC8964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481C-26C7-42FD-9AB1-B9C0FFB926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4"/>
          <p:cNvSpPr/>
          <p:nvPr/>
        </p:nvSpPr>
        <p:spPr>
          <a:xfrm>
            <a:off x="7993080" y="0"/>
            <a:ext cx="1915920" cy="83664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0" y="0"/>
            <a:ext cx="7977240" cy="836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305240" y="1989000"/>
            <a:ext cx="498636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e attest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First Name Last Nam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ttended from …….. to …. ….. 20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e Lifelong Learning Cour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897600" y="537372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ofessor ………………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6689880"/>
            <a:ext cx="9906120" cy="6984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3649680" y="301680"/>
            <a:ext cx="4183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long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8121600" y="357120"/>
            <a:ext cx="165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5"/>
          <p:cNvSpPr/>
          <p:nvPr/>
        </p:nvSpPr>
        <p:spPr>
          <a:xfrm>
            <a:off x="0" y="6773760"/>
            <a:ext cx="9906120" cy="111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6"/>
          <p:cNvSpPr/>
          <p:nvPr/>
        </p:nvSpPr>
        <p:spPr>
          <a:xfrm>
            <a:off x="3728880" y="836640"/>
            <a:ext cx="0" cy="2338200"/>
          </a:xfrm>
          <a:prstGeom prst="line">
            <a:avLst/>
          </a:prstGeom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7" descr="poli_prospettiva"/>
          <p:cNvPicPr/>
          <p:nvPr/>
        </p:nvPicPr>
        <p:blipFill>
          <a:blip r:embed="rId1"/>
          <a:stretch/>
        </p:blipFill>
        <p:spPr>
          <a:xfrm>
            <a:off x="0" y="4508640"/>
            <a:ext cx="3121200" cy="2106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1"/>
          <p:cNvSpPr/>
          <p:nvPr/>
        </p:nvSpPr>
        <p:spPr>
          <a:xfrm>
            <a:off x="560520" y="3573360"/>
            <a:ext cx="22320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ssued by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magine 13" descr="C:\Users\10259492\AppData\Local\Microsoft\Windows\Temporary Internet Files\Content.Word\02_Polimi_bandiera_BN_positivo_outline.jpg"/>
          <p:cNvPicPr/>
          <p:nvPr/>
        </p:nvPicPr>
        <p:blipFill>
          <a:blip r:embed="rId2"/>
          <a:stretch/>
        </p:blipFill>
        <p:spPr>
          <a:xfrm>
            <a:off x="488880" y="1889280"/>
            <a:ext cx="308628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07:45:09Z</dcterms:created>
  <dc:creator>OTIS S.p.A.</dc:creator>
  <dc:description/>
  <dc:language>en-US</dc:language>
  <cp:lastModifiedBy>Francesca Armani</cp:lastModifiedBy>
  <cp:lastPrinted>2000-10-13T08:29:58Z</cp:lastPrinted>
  <dcterms:modified xsi:type="dcterms:W3CDTF">2023-06-20T15:49:18Z</dcterms:modified>
  <cp:revision>59</cp:revision>
  <dc:subject/>
  <dc:title>Nessun titolo diapositiva</dc:title>
</cp:coreProperties>
</file>