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8D8-CA33-4A81-8D71-118FAAD0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9F1-5DF6-4F36-AC21-81A55D7D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2A3-1853-4155-8E02-B8288BA9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987-8DA1-42EC-8045-3A849511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08C-94F9-4A88-9A5A-82ACB42E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210-68FA-4242-B185-415C3B5E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857-B23B-4EF7-9C8A-51A38384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F16-8885-49BF-9B98-79CBEBCA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A34-7A55-4A87-B6AA-667730D0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C65-DE2D-4AC7-8120-B9DA47A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336-7598-4107-92B2-E486115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B2C-0F98-4526-80A3-D8019688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5406-6F6E-4DAF-A8F4-5C877650CC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4"/>
          <p:cNvSpPr/>
          <p:nvPr/>
        </p:nvSpPr>
        <p:spPr>
          <a:xfrm>
            <a:off x="7993080" y="0"/>
            <a:ext cx="1915920" cy="83664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0" y="0"/>
            <a:ext cx="7977240" cy="836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728880" y="1197000"/>
            <a:ext cx="58500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attesta 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Nome Cogn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scritto all’Albo dell’Ordine degli Architetti PPC della Provincia di 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n il n° di matricola 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a partecipato dal …….    al …… 2023, con la frequenza minima richiesta, all’even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tolo Evento Formativ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la durata di n. ….   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nutosi a Milano presso Politecnico di Mil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Con il presente attestato si certifica altresì l’attribuzione di n° X crediti formativi  professionali validi per il triennio ………, ai sensi dell’art. 7 del DPR n. 137/20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dice provvedimento CNAPPC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 (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inserire codice alfanumerico)</a:t>
            </a:r>
            <a:br>
              <a:rPr sz="12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753240" y="566100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iretto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of. ………………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40" y="7273800"/>
            <a:ext cx="9905760" cy="6984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3627360" y="312840"/>
            <a:ext cx="4205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zione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8129520" y="366840"/>
            <a:ext cx="178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5"/>
          <p:cNvSpPr/>
          <p:nvPr/>
        </p:nvSpPr>
        <p:spPr>
          <a:xfrm>
            <a:off x="0" y="6773760"/>
            <a:ext cx="9906120" cy="569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6"/>
          <p:cNvSpPr/>
          <p:nvPr/>
        </p:nvSpPr>
        <p:spPr>
          <a:xfrm>
            <a:off x="3728880" y="836640"/>
            <a:ext cx="0" cy="2338200"/>
          </a:xfrm>
          <a:prstGeom prst="line">
            <a:avLst/>
          </a:prstGeom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7" descr="poli_prospettiva"/>
          <p:cNvPicPr/>
          <p:nvPr/>
        </p:nvPicPr>
        <p:blipFill>
          <a:blip r:embed="rId1"/>
          <a:stretch/>
        </p:blipFill>
        <p:spPr>
          <a:xfrm>
            <a:off x="0" y="4508640"/>
            <a:ext cx="3121200" cy="2106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1"/>
          <p:cNvSpPr/>
          <p:nvPr/>
        </p:nvSpPr>
        <p:spPr>
          <a:xfrm>
            <a:off x="476280" y="2808360"/>
            <a:ext cx="2768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 Erogatr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  <a:ea typeface="Arial"/>
              </a:rPr>
              <a:t>Dipartimento di …………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2"/>
          <a:srcRect l="-2155" t="-6767" r="-2155" b="12401"/>
          <a:stretch/>
        </p:blipFill>
        <p:spPr>
          <a:xfrm>
            <a:off x="479520" y="3589200"/>
            <a:ext cx="2793960" cy="8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Y:\IMMAGINE _COORDINATA_2014\LOGO_UFFICIALE\02_Polimi_bandiera\jpg\02_Polimi_bandiera_BN_positivo_outline.jpg"/>
          <p:cNvPicPr/>
          <p:nvPr/>
        </p:nvPicPr>
        <p:blipFill>
          <a:blip r:embed="rId3"/>
          <a:srcRect l="7471" t="16602" r="7657" b="16740"/>
          <a:stretch/>
        </p:blipFill>
        <p:spPr>
          <a:xfrm>
            <a:off x="511200" y="1440000"/>
            <a:ext cx="26179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07:45:09Z</dcterms:created>
  <dc:creator>OTIS S.p.A.</dc:creator>
  <dc:description/>
  <dc:language>en-US</dc:language>
  <cp:lastModifiedBy>Francesca Armani</cp:lastModifiedBy>
  <cp:lastPrinted>2014-04-10T10:24:35Z</cp:lastPrinted>
  <dcterms:modified xsi:type="dcterms:W3CDTF">2023-06-20T15:48:24Z</dcterms:modified>
  <cp:revision>81</cp:revision>
  <dc:subject/>
  <dc:title>Nessun titolo diapositiva</dc:title>
</cp:coreProperties>
</file>